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8B93-623F-4987-A525-A5B98C795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F4D5-A568-4B9C-8917-4F5285D31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2CB0-5E59-4E5E-8074-1BE8544BD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8A9-468B-4D04-BDEB-10D77E7B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038-C792-4F66-8E96-3D621877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C85-B493-4D23-8D75-E5AC9D72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62F-EA5C-422F-88B1-A1C6691F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95E7-E527-4794-86FC-3F6389E0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3208-F3D6-4AA4-96B1-D5B906DA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2F79-F18E-473E-98F2-26A14981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C786-4621-4AF3-A4BD-7A1F6560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97D0-3EE4-4426-9E6A-DDBA1541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C4FA-FA8C-4424-BDDB-7C7C6DDE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75AB-A583-4EA1-BC35-E19DB4ED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CCF-2D63-4CA2-ABBD-F40EF862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B49A-7DFE-4F55-87ED-C6ADA45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19FB-F84C-4EFB-A43C-86045E1A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C45C-6BA5-4FD9-BE2B-F8C3793D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12B2-8039-4F7F-8E50-DA96A6D6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B9D7-9B26-4E95-87DF-4FBEDBD2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28C-4C25-47D9-99F1-3FF5D232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9F0-15DF-45DE-A193-7A157E8C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61D-A7C4-48DA-B2E9-5E8247F1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CB0-53F5-4EBE-A526-C52944AB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F36-AEF4-420E-8D87-8574773F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3F5-627A-4787-A08D-A7544664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522-648B-4FD0-8F02-8E3B508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1C40-8C1D-4951-833D-560D1B7D0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F73D-E422-4AC9-893E-72C444155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066680" y="380880"/>
            <a:ext cx="171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1981080" y="18288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ythagore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048120" y="434340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or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09480" y="4316400"/>
            <a:ext cx="18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49120" y="48927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09480" y="5943600"/>
            <a:ext cx="2433600" cy="144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30000" y="6014880"/>
            <a:ext cx="25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"/>
          <p:cNvSpPr/>
          <p:nvPr/>
        </p:nvSpPr>
        <p:spPr>
          <a:xfrm flipH="1" flipV="1">
            <a:off x="609480" y="4343400"/>
            <a:ext cx="24336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890360" y="451800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609480" y="5611680"/>
            <a:ext cx="331920" cy="18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941400" y="5611680"/>
            <a:ext cx="1440" cy="33192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4572000" y="457200"/>
                <a:ext cx="368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4800600" y="458460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Text Box 3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get the same number you would get by squaring the other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4800600" y="457200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2" name="Group 5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83" name="Line 6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14"/>
          <p:cNvSpPr/>
          <p:nvPr/>
        </p:nvSpPr>
        <p:spPr>
          <a:xfrm rot="10800000">
            <a:off x="335268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that corre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71800" y="236232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Text Box 15"/>
          <p:cNvSpPr/>
          <p:nvPr/>
        </p:nvSpPr>
        <p:spPr>
          <a:xfrm>
            <a:off x="525780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6"/>
              <p:cNvSpPr txBox="1"/>
              <p:nvPr/>
            </p:nvSpPr>
            <p:spPr>
              <a:xfrm>
                <a:off x="3390840" y="3898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7"/>
          <p:cNvSpPr/>
          <p:nvPr/>
        </p:nvSpPr>
        <p:spPr>
          <a:xfrm>
            <a:off x="5257800" y="3352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6"/>
          <p:cNvGrpSpPr/>
          <p:nvPr/>
        </p:nvGrpSpPr>
        <p:grpSpPr>
          <a:xfrm>
            <a:off x="803160" y="3978360"/>
            <a:ext cx="1984680" cy="2273400"/>
            <a:chOff x="803160" y="3978360"/>
            <a:chExt cx="1984680" cy="2273400"/>
          </a:xfrm>
        </p:grpSpPr>
        <p:grpSp>
          <p:nvGrpSpPr>
            <p:cNvPr id="199" name="Group 21"/>
            <p:cNvGrpSpPr/>
            <p:nvPr/>
          </p:nvGrpSpPr>
          <p:grpSpPr>
            <a:xfrm>
              <a:off x="803160" y="4034880"/>
              <a:ext cx="699120" cy="2216880"/>
              <a:chOff x="803160" y="4034880"/>
              <a:chExt cx="699120" cy="2216880"/>
            </a:xfrm>
          </p:grpSpPr>
          <p:sp>
            <p:nvSpPr>
              <p:cNvPr id="200" name="Line 4"/>
              <p:cNvSpPr/>
              <p:nvPr/>
            </p:nvSpPr>
            <p:spPr>
              <a:xfrm flipH="1">
                <a:off x="803160" y="4034880"/>
                <a:ext cx="699120" cy="2096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0"/>
              <p:cNvSpPr/>
              <p:nvPr/>
            </p:nvSpPr>
            <p:spPr>
              <a:xfrm>
                <a:off x="803160" y="6131160"/>
                <a:ext cx="361440" cy="12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2"/>
            <p:cNvGrpSpPr/>
            <p:nvPr/>
          </p:nvGrpSpPr>
          <p:grpSpPr>
            <a:xfrm>
              <a:off x="1555200" y="3978360"/>
              <a:ext cx="1232640" cy="2025000"/>
              <a:chOff x="1555200" y="3978360"/>
              <a:chExt cx="1232640" cy="2025000"/>
            </a:xfrm>
          </p:grpSpPr>
          <p:sp>
            <p:nvSpPr>
              <p:cNvPr id="203" name="Line 23"/>
              <p:cNvSpPr/>
              <p:nvPr/>
            </p:nvSpPr>
            <p:spPr>
              <a:xfrm>
                <a:off x="1555200" y="3978360"/>
                <a:ext cx="883440" cy="2025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 flipV="1">
                <a:off x="2438640" y="5851080"/>
                <a:ext cx="349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48"/>
          <p:cNvGrpSpPr/>
          <p:nvPr/>
        </p:nvGrpSpPr>
        <p:grpSpPr>
          <a:xfrm>
            <a:off x="2076480" y="4039200"/>
            <a:ext cx="1990080" cy="2183760"/>
            <a:chOff x="2076480" y="4039200"/>
            <a:chExt cx="1990080" cy="2183760"/>
          </a:xfrm>
        </p:grpSpPr>
        <p:grpSp>
          <p:nvGrpSpPr>
            <p:cNvPr id="206" name="Group 28"/>
            <p:cNvGrpSpPr/>
            <p:nvPr/>
          </p:nvGrpSpPr>
          <p:grpSpPr>
            <a:xfrm>
              <a:off x="2076480" y="4080600"/>
              <a:ext cx="1212840" cy="2055960"/>
              <a:chOff x="2076480" y="4080600"/>
              <a:chExt cx="1212840" cy="2055960"/>
            </a:xfrm>
          </p:grpSpPr>
          <p:sp>
            <p:nvSpPr>
              <p:cNvPr id="207" name="Line 29"/>
              <p:cNvSpPr/>
              <p:nvPr/>
            </p:nvSpPr>
            <p:spPr>
              <a:xfrm flipH="1">
                <a:off x="2076480" y="4080600"/>
                <a:ext cx="1212840" cy="184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0"/>
              <p:cNvSpPr/>
              <p:nvPr/>
            </p:nvSpPr>
            <p:spPr>
              <a:xfrm>
                <a:off x="2076480" y="5927400"/>
                <a:ext cx="318240" cy="20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1"/>
            <p:cNvGrpSpPr/>
            <p:nvPr/>
          </p:nvGrpSpPr>
          <p:grpSpPr>
            <a:xfrm>
              <a:off x="3354840" y="4039200"/>
              <a:ext cx="711720" cy="2183760"/>
              <a:chOff x="3354840" y="4039200"/>
              <a:chExt cx="711720" cy="21837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3354840" y="4039200"/>
                <a:ext cx="335160" cy="218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3690000" y="6165360"/>
                <a:ext cx="37656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34"/>
          <p:cNvGrpSpPr/>
          <p:nvPr/>
        </p:nvGrpSpPr>
        <p:grpSpPr>
          <a:xfrm>
            <a:off x="3612600" y="3828600"/>
            <a:ext cx="1857960" cy="2300400"/>
            <a:chOff x="3612600" y="3828600"/>
            <a:chExt cx="1857960" cy="2300400"/>
          </a:xfrm>
        </p:grpSpPr>
        <p:grpSp>
          <p:nvGrpSpPr>
            <p:cNvPr id="213" name="Group 35"/>
            <p:cNvGrpSpPr/>
            <p:nvPr/>
          </p:nvGrpSpPr>
          <p:grpSpPr>
            <a:xfrm>
              <a:off x="3612600" y="3896640"/>
              <a:ext cx="379800" cy="2232360"/>
              <a:chOff x="3612600" y="3896640"/>
              <a:chExt cx="379800" cy="2232360"/>
            </a:xfrm>
          </p:grpSpPr>
          <p:sp>
            <p:nvSpPr>
              <p:cNvPr id="214" name="Line 36"/>
              <p:cNvSpPr/>
              <p:nvPr/>
            </p:nvSpPr>
            <p:spPr>
              <a:xfrm flipH="1">
                <a:off x="3612600" y="3896640"/>
                <a:ext cx="171360" cy="2202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>
                <a:off x="3612600" y="6099480"/>
                <a:ext cx="379800" cy="2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8"/>
            <p:cNvGrpSpPr/>
            <p:nvPr/>
          </p:nvGrpSpPr>
          <p:grpSpPr>
            <a:xfrm>
              <a:off x="3821040" y="3828600"/>
              <a:ext cx="1649520" cy="1751040"/>
              <a:chOff x="3821040" y="3828600"/>
              <a:chExt cx="1649520" cy="1751040"/>
            </a:xfrm>
          </p:grpSpPr>
          <p:sp>
            <p:nvSpPr>
              <p:cNvPr id="217" name="Line 39"/>
              <p:cNvSpPr/>
              <p:nvPr/>
            </p:nvSpPr>
            <p:spPr>
              <a:xfrm>
                <a:off x="3821040" y="3828600"/>
                <a:ext cx="1347840" cy="1751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V="1">
                <a:off x="5168880" y="5347440"/>
                <a:ext cx="301680" cy="232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41"/>
          <p:cNvGrpSpPr/>
          <p:nvPr/>
        </p:nvGrpSpPr>
        <p:grpSpPr>
          <a:xfrm>
            <a:off x="4994280" y="3580200"/>
            <a:ext cx="1995840" cy="2174400"/>
            <a:chOff x="4994280" y="3580200"/>
            <a:chExt cx="1995840" cy="2174400"/>
          </a:xfrm>
        </p:grpSpPr>
        <p:grpSp>
          <p:nvGrpSpPr>
            <p:cNvPr id="220" name="Group 42"/>
            <p:cNvGrpSpPr/>
            <p:nvPr/>
          </p:nvGrpSpPr>
          <p:grpSpPr>
            <a:xfrm>
              <a:off x="4994280" y="3623040"/>
              <a:ext cx="1163880" cy="2079000"/>
              <a:chOff x="4994280" y="3623040"/>
              <a:chExt cx="1163880" cy="2079000"/>
            </a:xfrm>
          </p:grpSpPr>
          <p:sp>
            <p:nvSpPr>
              <p:cNvPr id="221" name="Line 43"/>
              <p:cNvSpPr/>
              <p:nvPr/>
            </p:nvSpPr>
            <p:spPr>
              <a:xfrm flipH="1">
                <a:off x="4994280" y="3623040"/>
                <a:ext cx="1163880" cy="1878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44"/>
              <p:cNvSpPr/>
              <p:nvPr/>
            </p:nvSpPr>
            <p:spPr>
              <a:xfrm>
                <a:off x="4994280" y="5501160"/>
                <a:ext cx="324000" cy="20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5"/>
            <p:cNvGrpSpPr/>
            <p:nvPr/>
          </p:nvGrpSpPr>
          <p:grpSpPr>
            <a:xfrm>
              <a:off x="6222600" y="3580200"/>
              <a:ext cx="767520" cy="2174400"/>
              <a:chOff x="6222600" y="3580200"/>
              <a:chExt cx="767520" cy="2174400"/>
            </a:xfrm>
          </p:grpSpPr>
          <p:sp>
            <p:nvSpPr>
              <p:cNvPr id="224" name="Line 46"/>
              <p:cNvSpPr/>
              <p:nvPr/>
            </p:nvSpPr>
            <p:spPr>
              <a:xfrm>
                <a:off x="6222600" y="3580200"/>
                <a:ext cx="392760" cy="217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7"/>
              <p:cNvSpPr/>
              <p:nvPr/>
            </p:nvSpPr>
            <p:spPr>
              <a:xfrm flipV="1">
                <a:off x="6615360" y="5686920"/>
                <a:ext cx="374760" cy="67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Group 49"/>
          <p:cNvGrpSpPr/>
          <p:nvPr/>
        </p:nvGrpSpPr>
        <p:grpSpPr>
          <a:xfrm>
            <a:off x="3799800" y="4263840"/>
            <a:ext cx="2223360" cy="1975320"/>
            <a:chOff x="3799800" y="4263840"/>
            <a:chExt cx="2223360" cy="1975320"/>
          </a:xfrm>
        </p:grpSpPr>
        <p:grpSp>
          <p:nvGrpSpPr>
            <p:cNvPr id="227" name="Group 50"/>
            <p:cNvGrpSpPr/>
            <p:nvPr/>
          </p:nvGrpSpPr>
          <p:grpSpPr>
            <a:xfrm>
              <a:off x="3808080" y="4340520"/>
              <a:ext cx="1457640" cy="1898640"/>
              <a:chOff x="3808080" y="4340520"/>
              <a:chExt cx="1457640" cy="1898640"/>
            </a:xfrm>
          </p:grpSpPr>
          <p:sp>
            <p:nvSpPr>
              <p:cNvPr id="228" name="Line 51"/>
              <p:cNvSpPr/>
              <p:nvPr/>
            </p:nvSpPr>
            <p:spPr>
              <a:xfrm>
                <a:off x="3808080" y="4340520"/>
                <a:ext cx="1130400" cy="18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 flipV="1">
                <a:off x="4938480" y="6044400"/>
                <a:ext cx="327240" cy="19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3"/>
            <p:cNvGrpSpPr/>
            <p:nvPr/>
          </p:nvGrpSpPr>
          <p:grpSpPr>
            <a:xfrm>
              <a:off x="3799800" y="4263840"/>
              <a:ext cx="2223360" cy="653760"/>
              <a:chOff x="3799800" y="4263840"/>
              <a:chExt cx="2223360" cy="653760"/>
            </a:xfrm>
          </p:grpSpPr>
          <p:sp>
            <p:nvSpPr>
              <p:cNvPr id="231" name="Line 54"/>
              <p:cNvSpPr/>
              <p:nvPr/>
            </p:nvSpPr>
            <p:spPr>
              <a:xfrm>
                <a:off x="3799800" y="4263840"/>
                <a:ext cx="2110680" cy="65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 flipV="1">
                <a:off x="5910480" y="4553640"/>
                <a:ext cx="112680" cy="363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56"/>
          <p:cNvGrpSpPr/>
          <p:nvPr/>
        </p:nvGrpSpPr>
        <p:grpSpPr>
          <a:xfrm>
            <a:off x="3339000" y="4081680"/>
            <a:ext cx="2280960" cy="1797480"/>
            <a:chOff x="3339000" y="4081680"/>
            <a:chExt cx="2280960" cy="1797480"/>
          </a:xfrm>
        </p:grpSpPr>
        <p:grpSp>
          <p:nvGrpSpPr>
            <p:cNvPr id="234" name="Group 57"/>
            <p:cNvGrpSpPr/>
            <p:nvPr/>
          </p:nvGrpSpPr>
          <p:grpSpPr>
            <a:xfrm>
              <a:off x="3409200" y="5498280"/>
              <a:ext cx="2210760" cy="380880"/>
              <a:chOff x="3409200" y="5498280"/>
              <a:chExt cx="2210760" cy="380880"/>
            </a:xfrm>
          </p:grpSpPr>
          <p:sp>
            <p:nvSpPr>
              <p:cNvPr id="235" name="Line 58"/>
              <p:cNvSpPr/>
              <p:nvPr/>
            </p:nvSpPr>
            <p:spPr>
              <a:xfrm>
                <a:off x="3409200" y="5871240"/>
                <a:ext cx="2209680" cy="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 flipV="1">
                <a:off x="5618880" y="5498280"/>
                <a:ext cx="10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60"/>
            <p:cNvGrpSpPr/>
            <p:nvPr/>
          </p:nvGrpSpPr>
          <p:grpSpPr>
            <a:xfrm>
              <a:off x="3339000" y="4081680"/>
              <a:ext cx="1646640" cy="1757160"/>
              <a:chOff x="3339000" y="4081680"/>
              <a:chExt cx="1646640" cy="1757160"/>
            </a:xfrm>
          </p:grpSpPr>
          <p:sp>
            <p:nvSpPr>
              <p:cNvPr id="238" name="Line 61"/>
              <p:cNvSpPr/>
              <p:nvPr/>
            </p:nvSpPr>
            <p:spPr>
              <a:xfrm flipV="1">
                <a:off x="3339000" y="4365720"/>
                <a:ext cx="1646640" cy="1473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 flipH="1" flipV="1">
                <a:off x="4731840" y="4081680"/>
                <a:ext cx="253800" cy="28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2"/>
          <p:cNvGrpSpPr/>
          <p:nvPr/>
        </p:nvGrpSpPr>
        <p:grpSpPr>
          <a:xfrm>
            <a:off x="3417120" y="5490360"/>
            <a:ext cx="2211120" cy="380880"/>
            <a:chOff x="3417120" y="5490360"/>
            <a:chExt cx="2211120" cy="380880"/>
          </a:xfrm>
        </p:grpSpPr>
        <p:sp>
          <p:nvSpPr>
            <p:cNvPr id="241" name="Line 33"/>
            <p:cNvSpPr/>
            <p:nvPr/>
          </p:nvSpPr>
          <p:spPr>
            <a:xfrm>
              <a:off x="3417120" y="5863320"/>
              <a:ext cx="2209680" cy="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4"/>
            <p:cNvSpPr/>
            <p:nvPr/>
          </p:nvSpPr>
          <p:spPr>
            <a:xfrm flipV="1">
              <a:off x="5626800" y="5490360"/>
              <a:ext cx="144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3858480" y="3566880"/>
            <a:ext cx="502560" cy="2238480"/>
            <a:chOff x="3858480" y="3566880"/>
            <a:chExt cx="502560" cy="2238480"/>
          </a:xfrm>
        </p:grpSpPr>
        <p:sp>
          <p:nvSpPr>
            <p:cNvPr id="245" name="Line 14"/>
            <p:cNvSpPr/>
            <p:nvPr/>
          </p:nvSpPr>
          <p:spPr>
            <a:xfrm flipV="1">
              <a:off x="3858480" y="3653640"/>
              <a:ext cx="502560" cy="215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 flipV="1">
              <a:off x="3990240" y="3566880"/>
              <a:ext cx="370800" cy="8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0320" y="3834360"/>
            <a:ext cx="1288080" cy="1998000"/>
            <a:chOff x="3280320" y="3834360"/>
            <a:chExt cx="1288080" cy="1998000"/>
          </a:xfrm>
        </p:grpSpPr>
        <p:sp>
          <p:nvSpPr>
            <p:cNvPr id="248" name="Line 17"/>
            <p:cNvSpPr/>
            <p:nvPr/>
          </p:nvSpPr>
          <p:spPr>
            <a:xfrm flipH="1" flipV="1">
              <a:off x="3624840" y="3834360"/>
              <a:ext cx="943560" cy="199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3280320" y="3834360"/>
              <a:ext cx="344520" cy="16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9"/>
          <p:cNvGrpSpPr/>
          <p:nvPr/>
        </p:nvGrpSpPr>
        <p:grpSpPr>
          <a:xfrm>
            <a:off x="4036680" y="3657240"/>
            <a:ext cx="380880" cy="2210400"/>
            <a:chOff x="4036680" y="3657240"/>
            <a:chExt cx="380880" cy="2210400"/>
          </a:xfrm>
        </p:grpSpPr>
        <p:sp>
          <p:nvSpPr>
            <p:cNvPr id="251" name="Line 20"/>
            <p:cNvSpPr/>
            <p:nvPr/>
          </p:nvSpPr>
          <p:spPr>
            <a:xfrm flipH="1">
              <a:off x="403668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403668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22"/>
          <p:cNvGrpSpPr/>
          <p:nvPr/>
        </p:nvGrpSpPr>
        <p:grpSpPr>
          <a:xfrm>
            <a:off x="3035160" y="4619880"/>
            <a:ext cx="2199600" cy="589680"/>
            <a:chOff x="3035160" y="4619880"/>
            <a:chExt cx="2199600" cy="589680"/>
          </a:xfrm>
        </p:grpSpPr>
        <p:sp>
          <p:nvSpPr>
            <p:cNvPr id="254" name="Line 23"/>
            <p:cNvSpPr/>
            <p:nvPr/>
          </p:nvSpPr>
          <p:spPr>
            <a:xfrm flipH="1">
              <a:off x="3035160" y="4619880"/>
              <a:ext cx="2199600" cy="21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3035160" y="4830120"/>
              <a:ext cx="3600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3329280" y="4092120"/>
            <a:ext cx="1647000" cy="1756800"/>
            <a:chOff x="3329280" y="4092120"/>
            <a:chExt cx="1647000" cy="1756800"/>
          </a:xfrm>
        </p:grpSpPr>
        <p:sp>
          <p:nvSpPr>
            <p:cNvPr id="257" name="Line 30"/>
            <p:cNvSpPr/>
            <p:nvPr/>
          </p:nvSpPr>
          <p:spPr>
            <a:xfrm flipV="1">
              <a:off x="3329280" y="4375800"/>
              <a:ext cx="1647000" cy="147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 flipH="1" flipV="1">
              <a:off x="4722480" y="4092120"/>
              <a:ext cx="253800" cy="28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5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0" name="Line 36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65" name="Line 7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8" name="Line 25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WordArt 27"/>
          <p:cNvSpPr txBox="1"/>
          <p:nvPr/>
        </p:nvSpPr>
        <p:spPr>
          <a:xfrm>
            <a:off x="5334120" y="205740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gs.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09480" y="22860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engths of the legs are usually cal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7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7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side across from the right ang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8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8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33920" y="10587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called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2590920" y="2209680"/>
            <a:ext cx="52369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ypotenus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505320" y="4800600"/>
            <a:ext cx="990360" cy="990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228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the length of the hypotenuse                             is usually labe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98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01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relationship Pythagorus discovered is now called The Pythagorean 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10" name="Line 14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13" name="Line 17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9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85800" y="763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Pythagorean Theorem says, given the right triangle with legs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hypotenus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22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25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agorean Theorem 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530280" y="2335320"/>
            <a:ext cx="79311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676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3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3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3200400" y="851040"/>
                <a:ext cx="3759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1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rectangle given its diagonal and si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46" name="Line 23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6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4356000" y="2633760"/>
            <a:ext cx="4100040" cy="1914120"/>
            <a:chOff x="4356000" y="2633760"/>
            <a:chExt cx="4100040" cy="1914120"/>
          </a:xfrm>
        </p:grpSpPr>
        <p:sp>
          <p:nvSpPr>
            <p:cNvPr id="351" name="Rectangle 25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800100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Line 31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4529160" y="3581280"/>
            <a:ext cx="12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9"/>
          <p:cNvGrpSpPr/>
          <p:nvPr/>
        </p:nvGrpSpPr>
        <p:grpSpPr>
          <a:xfrm>
            <a:off x="1676520" y="3182760"/>
            <a:ext cx="6222960" cy="2227320"/>
            <a:chOff x="1676520" y="3182760"/>
            <a:chExt cx="6222960" cy="2227320"/>
          </a:xfrm>
        </p:grpSpPr>
        <p:grpSp>
          <p:nvGrpSpPr>
            <p:cNvPr id="356" name="Group 41"/>
            <p:cNvGrpSpPr/>
            <p:nvPr/>
          </p:nvGrpSpPr>
          <p:grpSpPr>
            <a:xfrm>
              <a:off x="1676520" y="3187440"/>
              <a:ext cx="6221160" cy="2222640"/>
              <a:chOff x="1676520" y="3187440"/>
              <a:chExt cx="6221160" cy="2222640"/>
            </a:xfrm>
          </p:grpSpPr>
          <p:sp>
            <p:nvSpPr>
              <p:cNvPr id="357" name="Line 11"/>
              <p:cNvSpPr/>
              <p:nvPr/>
            </p:nvSpPr>
            <p:spPr>
              <a:xfrm>
                <a:off x="1709640" y="3187440"/>
                <a:ext cx="6172200" cy="2210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9"/>
              <p:cNvGrpSpPr/>
              <p:nvPr/>
            </p:nvGrpSpPr>
            <p:grpSpPr>
              <a:xfrm>
                <a:off x="1676520" y="3190680"/>
                <a:ext cx="6221160" cy="2219400"/>
                <a:chOff x="1676520" y="3190680"/>
                <a:chExt cx="6221160" cy="2219400"/>
              </a:xfrm>
            </p:grpSpPr>
            <p:sp>
              <p:nvSpPr>
                <p:cNvPr id="359" name="Line 30"/>
                <p:cNvSpPr/>
                <p:nvPr/>
              </p:nvSpPr>
              <p:spPr>
                <a:xfrm>
                  <a:off x="1676520" y="3190680"/>
                  <a:ext cx="1440" cy="2217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31"/>
                <p:cNvSpPr/>
                <p:nvPr/>
              </p:nvSpPr>
              <p:spPr>
                <a:xfrm>
                  <a:off x="1676520" y="5408280"/>
                  <a:ext cx="6221160" cy="1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Line 45"/>
            <p:cNvSpPr/>
            <p:nvPr/>
          </p:nvSpPr>
          <p:spPr>
            <a:xfrm>
              <a:off x="1676520" y="3182760"/>
              <a:ext cx="62211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47"/>
            <p:cNvSpPr/>
            <p:nvPr/>
          </p:nvSpPr>
          <p:spPr>
            <a:xfrm flipV="1">
              <a:off x="7897680" y="3182760"/>
              <a:ext cx="180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2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leg of the right tri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0"/>
          <p:cNvGrpSpPr/>
          <p:nvPr/>
        </p:nvGrpSpPr>
        <p:grpSpPr>
          <a:xfrm>
            <a:off x="4356000" y="2633760"/>
            <a:ext cx="4100400" cy="1914120"/>
            <a:chOff x="4356000" y="2633760"/>
            <a:chExt cx="4100400" cy="1914120"/>
          </a:xfrm>
        </p:grpSpPr>
        <p:sp>
          <p:nvSpPr>
            <p:cNvPr id="365" name="Rectangle 9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00136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12"/>
          <p:cNvSpPr/>
          <p:nvPr/>
        </p:nvSpPr>
        <p:spPr>
          <a:xfrm>
            <a:off x="4529160" y="3581280"/>
            <a:ext cx="11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457200" y="4084560"/>
            <a:ext cx="12193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3677760" y="5592600"/>
            <a:ext cx="1177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1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843000" y="4038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681200" y="5078520"/>
            <a:ext cx="333360" cy="331560"/>
            <a:chOff x="1681200" y="5078520"/>
            <a:chExt cx="333360" cy="331560"/>
          </a:xfrm>
        </p:grpSpPr>
        <p:sp>
          <p:nvSpPr>
            <p:cNvPr id="372" name="Line 17"/>
            <p:cNvSpPr/>
            <p:nvPr/>
          </p:nvSpPr>
          <p:spPr>
            <a:xfrm>
              <a:off x="1681200" y="5078520"/>
              <a:ext cx="3319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8"/>
            <p:cNvSpPr/>
            <p:nvPr/>
          </p:nvSpPr>
          <p:spPr>
            <a:xfrm>
              <a:off x="2013120" y="5078520"/>
              <a:ext cx="1440" cy="331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Object 19"/>
              <p:cNvSpPr txBox="1"/>
              <p:nvPr/>
            </p:nvSpPr>
            <p:spPr>
              <a:xfrm>
                <a:off x="1962000" y="152280"/>
                <a:ext cx="4564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847880" y="228600"/>
                <a:ext cx="4533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1"/>
              <p:cNvSpPr txBox="1"/>
              <p:nvPr/>
            </p:nvSpPr>
            <p:spPr>
              <a:xfrm>
                <a:off x="1709640" y="228600"/>
                <a:ext cx="4808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2"/>
              <p:cNvSpPr txBox="1"/>
              <p:nvPr/>
            </p:nvSpPr>
            <p:spPr>
              <a:xfrm>
                <a:off x="1371600" y="98280"/>
                <a:ext cx="6288120" cy="31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3"/>
              <p:cNvSpPr txBox="1"/>
              <p:nvPr/>
            </p:nvSpPr>
            <p:spPr>
              <a:xfrm>
                <a:off x="1623960" y="1600200"/>
                <a:ext cx="3403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38"/>
          <p:cNvGrpSpPr/>
          <p:nvPr/>
        </p:nvGrpSpPr>
        <p:grpSpPr>
          <a:xfrm>
            <a:off x="457200" y="3192480"/>
            <a:ext cx="7442280" cy="2903040"/>
            <a:chOff x="457200" y="3192480"/>
            <a:chExt cx="7442280" cy="2903040"/>
          </a:xfrm>
        </p:grpSpPr>
        <p:grpSp>
          <p:nvGrpSpPr>
            <p:cNvPr id="380" name="Group 24"/>
            <p:cNvGrpSpPr/>
            <p:nvPr/>
          </p:nvGrpSpPr>
          <p:grpSpPr>
            <a:xfrm>
              <a:off x="1676520" y="3192480"/>
              <a:ext cx="6222960" cy="2227320"/>
              <a:chOff x="1676520" y="3192480"/>
              <a:chExt cx="6222960" cy="2227320"/>
            </a:xfrm>
          </p:grpSpPr>
          <p:grpSp>
            <p:nvGrpSpPr>
              <p:cNvPr id="381" name="Group 25"/>
              <p:cNvGrpSpPr/>
              <p:nvPr/>
            </p:nvGrpSpPr>
            <p:grpSpPr>
              <a:xfrm>
                <a:off x="1676520" y="3197160"/>
                <a:ext cx="6221160" cy="2222640"/>
                <a:chOff x="1676520" y="3197160"/>
                <a:chExt cx="6221160" cy="2222640"/>
              </a:xfrm>
            </p:grpSpPr>
            <p:sp>
              <p:nvSpPr>
                <p:cNvPr id="382" name="Line 26"/>
                <p:cNvSpPr/>
                <p:nvPr/>
              </p:nvSpPr>
              <p:spPr>
                <a:xfrm>
                  <a:off x="1709640" y="3197160"/>
                  <a:ext cx="6172200" cy="22100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Group 27"/>
                <p:cNvGrpSpPr/>
                <p:nvPr/>
              </p:nvGrpSpPr>
              <p:grpSpPr>
                <a:xfrm>
                  <a:off x="1676520" y="3200400"/>
                  <a:ext cx="6221160" cy="2219400"/>
                  <a:chOff x="1676520" y="3200400"/>
                  <a:chExt cx="6221160" cy="2219400"/>
                </a:xfrm>
              </p:grpSpPr>
              <p:sp>
                <p:nvSpPr>
                  <p:cNvPr id="384" name="Line 28"/>
                  <p:cNvSpPr/>
                  <p:nvPr/>
                </p:nvSpPr>
                <p:spPr>
                  <a:xfrm>
                    <a:off x="1676520" y="3200400"/>
                    <a:ext cx="1440" cy="2217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1676520" y="5418000"/>
                    <a:ext cx="6221160" cy="18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" name="Line 30"/>
              <p:cNvSpPr/>
              <p:nvPr/>
            </p:nvSpPr>
            <p:spPr>
              <a:xfrm>
                <a:off x="1676520" y="3192480"/>
                <a:ext cx="6221160" cy="144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V="1">
                <a:off x="7897680" y="3192480"/>
                <a:ext cx="1800" cy="221760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457200" y="4084560"/>
              <a:ext cx="121932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b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3677760" y="5592600"/>
              <a:ext cx="1177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a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22760" y="3535200"/>
              <a:ext cx="1567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C=17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5"/>
            <p:cNvGrpSpPr/>
            <p:nvPr/>
          </p:nvGrpSpPr>
          <p:grpSpPr>
            <a:xfrm>
              <a:off x="1681200" y="5078520"/>
              <a:ext cx="333360" cy="331560"/>
              <a:chOff x="1681200" y="5078520"/>
              <a:chExt cx="333360" cy="331560"/>
            </a:xfrm>
          </p:grpSpPr>
          <p:sp>
            <p:nvSpPr>
              <p:cNvPr id="392" name="Line 36"/>
              <p:cNvSpPr/>
              <p:nvPr/>
            </p:nvSpPr>
            <p:spPr>
              <a:xfrm>
                <a:off x="1681200" y="5078520"/>
                <a:ext cx="331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37"/>
              <p:cNvSpPr/>
              <p:nvPr/>
            </p:nvSpPr>
            <p:spPr>
              <a:xfrm>
                <a:off x="2013120" y="5078520"/>
                <a:ext cx="1440" cy="331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026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ide length of the rectangle is 8”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027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96" name="Line 1028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29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30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31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032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401" name="Rectangle 1033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034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1035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36"/>
          <p:cNvSpPr/>
          <p:nvPr/>
        </p:nvSpPr>
        <p:spPr>
          <a:xfrm>
            <a:off x="4071960" y="4205160"/>
            <a:ext cx="103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412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actice using                     The Pythagorean Theorem     to solve these right triangles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1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07" name="Rectangle 22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25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11" name="Line 26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27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13" name="Line 28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9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30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31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18" name="Rectangle 3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6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22" name="Line 7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8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24" name="Line 9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10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1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2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8" name="Text Box 13"/>
          <p:cNvSpPr/>
          <p:nvPr/>
        </p:nvSpPr>
        <p:spPr>
          <a:xfrm>
            <a:off x="5562720" y="15228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696080" y="12952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4419720" y="23623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6"/>
              <p:cNvSpPr txBox="1"/>
              <p:nvPr/>
            </p:nvSpPr>
            <p:spPr>
              <a:xfrm>
                <a:off x="685800" y="137160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7"/>
              <p:cNvSpPr txBox="1"/>
              <p:nvPr/>
            </p:nvSpPr>
            <p:spPr>
              <a:xfrm>
                <a:off x="482760" y="2209680"/>
                <a:ext cx="34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8"/>
              <p:cNvSpPr txBox="1"/>
              <p:nvPr/>
            </p:nvSpPr>
            <p:spPr>
              <a:xfrm>
                <a:off x="457200" y="297180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9"/>
              <p:cNvSpPr txBox="1"/>
              <p:nvPr/>
            </p:nvSpPr>
            <p:spPr>
              <a:xfrm>
                <a:off x="520560" y="373392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0"/>
              <p:cNvSpPr txBox="1"/>
              <p:nvPr/>
            </p:nvSpPr>
            <p:spPr>
              <a:xfrm>
                <a:off x="1219320" y="4495680"/>
                <a:ext cx="2108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1"/>
              <p:cNvSpPr txBox="1"/>
              <p:nvPr/>
            </p:nvSpPr>
            <p:spPr>
              <a:xfrm>
                <a:off x="4800600" y="3505320"/>
                <a:ext cx="2743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a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+ b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c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ing for length of a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312920" y="2895480"/>
            <a:ext cx="2286000" cy="13716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533520" y="32767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1981080" y="4343400"/>
            <a:ext cx="6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2" name="WordArt 7"/>
          <p:cNvSpPr txBox="1"/>
          <p:nvPr/>
        </p:nvSpPr>
        <p:spPr>
          <a:xfrm>
            <a:off x="2590920" y="29718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100 -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696960" y="331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630336" presetSubtype="127897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630336" presetSubtype="1278973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630336" presetSubtype="1278973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630336" presetSubtype="1278974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904760" y="1859040"/>
            <a:ext cx="5867640" cy="2865240"/>
            <a:chOff x="1904760" y="1859040"/>
            <a:chExt cx="5867640" cy="2865240"/>
          </a:xfrm>
        </p:grpSpPr>
        <p:sp>
          <p:nvSpPr>
            <p:cNvPr id="446" name="Line 3"/>
            <p:cNvSpPr/>
            <p:nvPr/>
          </p:nvSpPr>
          <p:spPr>
            <a:xfrm>
              <a:off x="2286000" y="1859040"/>
              <a:ext cx="144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904760" y="26971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2286000" y="4145040"/>
              <a:ext cx="548496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"/>
            <p:cNvSpPr/>
            <p:nvPr/>
          </p:nvSpPr>
          <p:spPr>
            <a:xfrm>
              <a:off x="4258800" y="42213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 flipH="1" flipV="1">
              <a:off x="2286000" y="1859040"/>
              <a:ext cx="548640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4952880" y="2316240"/>
              <a:ext cx="1524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2286000" y="3813120"/>
              <a:ext cx="33192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2617920" y="3813120"/>
              <a:ext cx="1440" cy="33192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TextBox 2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TH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= c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5240160" y="1981080"/>
            <a:ext cx="359892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1904760" y="1858680"/>
            <a:ext cx="5867640" cy="2865240"/>
            <a:chOff x="1904760" y="1858680"/>
            <a:chExt cx="5867640" cy="2865240"/>
          </a:xfrm>
        </p:grpSpPr>
        <p:sp>
          <p:nvSpPr>
            <p:cNvPr id="456" name="Line 3"/>
            <p:cNvSpPr/>
            <p:nvPr/>
          </p:nvSpPr>
          <p:spPr>
            <a:xfrm>
              <a:off x="2286000" y="1859040"/>
              <a:ext cx="144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904760" y="26967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2286000" y="4144680"/>
              <a:ext cx="5484960" cy="10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257720" y="4221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 flipH="1" flipV="1">
              <a:off x="2286000" y="1858680"/>
              <a:ext cx="548640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952880" y="2315880"/>
              <a:ext cx="121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2286000" y="3812760"/>
              <a:ext cx="33192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2617920" y="3812760"/>
              <a:ext cx="1440" cy="3315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1198440" cy="15620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1523880" y="1359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tangular field has a length of 100 yards and a width of 33 yards. About how far is it from one corner of the field to the opposite corner of the field? Round your answer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12"/>
          <p:cNvGrpSpPr/>
          <p:nvPr/>
        </p:nvGrpSpPr>
        <p:grpSpPr>
          <a:xfrm>
            <a:off x="712800" y="1066680"/>
            <a:ext cx="4525200" cy="762120"/>
            <a:chOff x="712800" y="1066680"/>
            <a:chExt cx="4525200" cy="762120"/>
          </a:xfrm>
        </p:grpSpPr>
        <p:grpSp>
          <p:nvGrpSpPr>
            <p:cNvPr id="469" name="Group 13"/>
            <p:cNvGrpSpPr/>
            <p:nvPr/>
          </p:nvGrpSpPr>
          <p:grpSpPr>
            <a:xfrm>
              <a:off x="712800" y="1066680"/>
              <a:ext cx="761760" cy="762120"/>
              <a:chOff x="712800" y="1066680"/>
              <a:chExt cx="761760" cy="762120"/>
            </a:xfrm>
          </p:grpSpPr>
          <p:pic>
            <p:nvPicPr>
              <p:cNvPr id="470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106668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5"/>
              <p:cNvSpPr/>
              <p:nvPr/>
            </p:nvSpPr>
            <p:spPr>
              <a:xfrm>
                <a:off x="844920" y="1084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16"/>
            <p:cNvSpPr/>
            <p:nvPr/>
          </p:nvSpPr>
          <p:spPr>
            <a:xfrm>
              <a:off x="1000440" y="114192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17"/>
          <p:cNvSpPr/>
          <p:nvPr/>
        </p:nvSpPr>
        <p:spPr>
          <a:xfrm>
            <a:off x="2009880" y="160020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question as a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1495440" y="20397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distance from one corner of the field to the opposite corner of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192040" y="4454640"/>
            <a:ext cx="53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gment between the two corne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63760" y="5257800"/>
            <a:ext cx="76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des of the fields are legs, and they are 33 yards long and 100 yard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1477800" y="2844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1447920" y="32846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a segment from one corner of the field to the opposite corner of the field divides the field into two right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380880" y="1492200"/>
            <a:ext cx="2684520" cy="647640"/>
            <a:chOff x="380880" y="1492200"/>
            <a:chExt cx="2684520" cy="647640"/>
          </a:xfrm>
        </p:grpSpPr>
        <p:grpSp>
          <p:nvGrpSpPr>
            <p:cNvPr id="481" name="Group 12"/>
            <p:cNvGrpSpPr/>
            <p:nvPr/>
          </p:nvGrpSpPr>
          <p:grpSpPr>
            <a:xfrm>
              <a:off x="380880" y="1492200"/>
              <a:ext cx="571680" cy="647640"/>
              <a:chOff x="380880" y="1492200"/>
              <a:chExt cx="571680" cy="647640"/>
            </a:xfrm>
          </p:grpSpPr>
          <p:pic>
            <p:nvPicPr>
              <p:cNvPr id="48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14"/>
              <p:cNvSpPr/>
              <p:nvPr/>
            </p:nvSpPr>
            <p:spPr>
              <a:xfrm>
                <a:off x="515160" y="152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Text Box 15"/>
            <p:cNvSpPr/>
            <p:nvPr/>
          </p:nvSpPr>
          <p:spPr>
            <a:xfrm>
              <a:off x="1241640" y="1538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16"/>
          <p:cNvSpPr/>
          <p:nvPr/>
        </p:nvSpPr>
        <p:spPr>
          <a:xfrm>
            <a:off x="1726200" y="198108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Pythagorean Theorem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533520" y="990720"/>
            <a:ext cx="1737000" cy="704880"/>
            <a:chOff x="533520" y="990720"/>
            <a:chExt cx="1737000" cy="704880"/>
          </a:xfrm>
        </p:grpSpPr>
        <p:sp>
          <p:nvSpPr>
            <p:cNvPr id="488" name="Text Box 11"/>
            <p:cNvSpPr/>
            <p:nvPr/>
          </p:nvSpPr>
          <p:spPr>
            <a:xfrm>
              <a:off x="1395000" y="1113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2"/>
            <p:cNvGrpSpPr/>
            <p:nvPr/>
          </p:nvGrpSpPr>
          <p:grpSpPr>
            <a:xfrm>
              <a:off x="533520" y="990720"/>
              <a:ext cx="704880" cy="704880"/>
              <a:chOff x="533520" y="990720"/>
              <a:chExt cx="704880" cy="704880"/>
            </a:xfrm>
          </p:grpSpPr>
          <p:pic>
            <p:nvPicPr>
              <p:cNvPr id="49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9072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14"/>
              <p:cNvSpPr/>
              <p:nvPr/>
            </p:nvSpPr>
            <p:spPr>
              <a:xfrm>
                <a:off x="748800" y="110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Text Box 15"/>
          <p:cNvSpPr/>
          <p:nvPr/>
        </p:nvSpPr>
        <p:spPr>
          <a:xfrm>
            <a:off x="1653480" y="16765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1150920" y="2255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50080" y="281952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9 + 10,00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1636920" y="3400560"/>
            <a:ext cx="15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,08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398600" y="39625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0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1187280" y="512136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one corner of the field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corner is about 105.3 y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3698280" y="170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Use the Pythagorean Theor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781800" y="2266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Substitute for the know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3558600" y="28195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Evaluate th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329544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3807000" y="39625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Take the square roots of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1726920" y="45720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3309840" y="4572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F:\images_sound\baseball.gif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5" dur="1" fill="hold"/>
                                  <p:tgtEl>
                                    <p:spTgt spid="5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9" descr="F:\images_sound\baball1.gif"/>
          <p:cNvPicPr/>
          <p:nvPr/>
        </p:nvPicPr>
        <p:blipFill>
          <a:blip r:embed="rId1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4" dur="1" fill="hold"/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4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1" dur="1" fill="hold"/>
                                  <p:tgtEl>
                                    <p:spTgt spid="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stance from home to second, or side x in the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home to first and from first to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5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4" dur="1" fill="hold"/>
                                  <p:tgtEl>
                                    <p:spTgt spid="5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is the window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C:\Ali's Database\BILLIE\house.gif"/>
          <p:cNvPicPr/>
          <p:nvPr/>
        </p:nvPicPr>
        <p:blipFill>
          <a:blip r:embed="rId1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2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0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1" dur="1" fill="hold"/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:\images_sound\pythprf.gif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the sid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25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7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olve for the missing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4101840"/>
              <a:gd name="textAreaBottom" fmla="*/ 4102200 h 4101840"/>
            </a:gdLst>
            <a:ahLst/>
            <a:rect l="textAreaLeft" t="textAreaTop" r="textAreaRight" b="textAreaBottom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548600" y="5573880"/>
            <a:ext cx="373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>
              <a:gd name="textAreaLeft" fmla="*/ 0 w 320760"/>
              <a:gd name="textAreaRight" fmla="*/ 321120 w 320760"/>
              <a:gd name="textAreaTop" fmla="*/ 0 h 2573280"/>
              <a:gd name="textAreaBottom" fmla="*/ 2573640 h 2573280"/>
            </a:gdLst>
            <a:ahLst/>
            <a:rect l="textAreaLeft" t="textAreaTop" r="textAreaRight" b="textAreaBottom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6" dur="1" fill="hold"/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5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 = 24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2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4089240" y="1308240"/>
            <a:ext cx="1143000" cy="19555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076640" y="328464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63880" y="126828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 rot="19789800">
            <a:off x="4511160" y="536040"/>
            <a:ext cx="2289240" cy="23274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51040" y="4317840"/>
            <a:ext cx="2288880" cy="232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238560" y="552456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664080" y="463392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238560" y="567684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235560" y="554508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816520" y="607068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976720" y="5907240"/>
            <a:ext cx="7560" cy="33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651120" y="2050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863800" y="755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24320" y="52642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25840" y="3193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76680" y="34862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03680" y="1898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013440" y="2546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496200" y="57722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657440" y="50608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371600" y="228600"/>
            <a:ext cx="1701720" cy="584280"/>
          </a:xfrm>
          <a:prstGeom prst="wedgeRoundRectCallout">
            <a:avLst>
              <a:gd name="adj1" fmla="val -68750"/>
              <a:gd name="adj2" fmla="val 54074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t’s look at it this way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717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ittle squ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132" name="Line 4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7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7200" y="556272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295280" y="7034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n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219320" y="1525680"/>
            <a:ext cx="685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 tells you it is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23623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ight 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ythagorus realized that if you have a right tri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44" name="Line 8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square the lengths of the two sides that make up the right 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04920" y="4038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 rot="16200000">
            <a:off x="2362320" y="586692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172200" y="4584600"/>
                <a:ext cx="68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4800600" y="457200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7" name="Group 20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58" name="Line 21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add them together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68" name="Line 19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6172200" y="4578480"/>
                <a:ext cx="685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9"/>
              <p:cNvSpPr txBox="1"/>
              <p:nvPr/>
            </p:nvSpPr>
            <p:spPr>
              <a:xfrm>
                <a:off x="4789440" y="457848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0"/>
              <p:cNvSpPr txBox="1"/>
              <p:nvPr/>
            </p:nvSpPr>
            <p:spPr>
              <a:xfrm>
                <a:off x="4789440" y="457848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5:47Z</dcterms:created>
  <dc:creator>Bob Greer</dc:creator>
  <dc:description/>
  <dc:language>en-US</dc:language>
  <cp:lastModifiedBy>khinda</cp:lastModifiedBy>
  <dcterms:modified xsi:type="dcterms:W3CDTF">2013-08-16T16:05:20Z</dcterms:modified>
  <cp:revision>17</cp:revision>
  <dc:subject/>
  <dc:title>PowerPoint Presentation</dc:title>
</cp:coreProperties>
</file>